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C701-49F6-4AAB-891E-E1CCA7163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A007-9BAD-45F8-85D0-B254777DF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8807-B7FE-4771-900E-C0DA90726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9A6F-7CF4-4063-B490-A6DBB5633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3DD3-D138-433A-BDFE-1194FB1E4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BBBB-0409-4A09-BF66-6462A5589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0A1E-2EEC-44EC-BD20-228FB2274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AD8D-0D2A-4D8F-838E-74185F6F0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E880-AC8A-4BE8-B2B3-03EB1368E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0301-2B49-4ECC-A01D-2DD95982D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C966-F8D3-4344-94C6-37A74F4A0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96C8-2F5B-45D3-BA42-3E219AB4D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DCFF-01D0-483D-8853-9C91CECA9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174D-1F4F-4A79-8FEB-125BDBE91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8CE0-D085-4052-A9C2-3FF6140EA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B85C-5012-4623-8C4E-641B92657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0CCD-F52B-493B-ACB6-ADC2A74BD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AF70-B222-48B7-BADC-8B2130694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594D-ECA3-4EF9-B2E8-22F6C0552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F32A-87D2-45C0-B034-9380E28E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9179-CEBB-4D35-BDA1-8A8F191DD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C039-8566-48AF-93C2-EFC3A1E5C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FCFF-F971-4A8D-9157-A7AC789F5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0F49-F054-4866-8A5E-998CAC549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01D-F0C9-4744-8AF7-11DE5B95C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A3E-7425-46F8-BA49-C45F99BA4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F167-FD8B-4143-83B1-7D238A7B8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21C8-A771-4D55-96F5-BA9F24A6A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3E7B-456A-4056-8527-E3E416547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0745-9B02-4DF3-980F-B133D7976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0DBD-8EEE-4078-B38F-19FDA72D5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748-FFD2-4276-A00A-8058B1147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83A7-5B78-45AD-979D-4A06CAA45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DBEB-370F-493C-8FE3-A9BCF9D91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ED41-54CD-4195-92DC-B89C7B65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37A7-4B01-4765-B3F2-D24632BE2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2DD9-74A0-416C-8713-605D99E44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3AA1-89DF-4644-AC13-7D451AAE7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3FEA-6B7B-4BD6-ADF8-232489E2A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90BD-BF30-42F9-B05D-2B8FF018C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1674-65BB-405B-B4F7-5F548A385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2781-927C-483D-9422-BE64DC140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AA01-A31F-4732-A838-B61B5E75F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56A3-F694-4C08-91A8-84FB6E487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E2C67-8911-476A-BBDF-C5406991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92207-7F4B-4957-B124-0B5F30FB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48F38-BEDD-458F-A21A-22E72461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C3D05-7D8F-48AF-B4EA-E7977AAD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3FD95-22BE-438D-BD71-DB69EF2D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11D01-3D82-4718-956E-040A9793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9459E-667A-4CCA-AE6F-2EFB5CE4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A3FA-1710-4A02-8AED-AEDFFB1A1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E40D7-BC4F-41F0-B04C-6F97BBC9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C6ABC-93B2-4B61-B256-3F7C83C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E265C-5B6F-403A-90D2-405D31B4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9B38E-C44B-4CC5-A9F3-CA4A1617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17E4C-270E-4BE6-8E4F-AD85F85F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E16D4-3503-40BB-BC47-39EE3E6A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F46CC-2AE5-4419-AB1A-802CE943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AB70E-94DF-4CEF-8FFD-70FD7B40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AB18B-201B-4527-8862-29988DCD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5B154-D86C-4BF6-BAB5-E4950657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4A00-8EAD-480D-9C6C-88C6B43393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4EEA9-BDAC-4396-B2CF-833AB0B4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4CA9B-BFE4-4324-B9D9-CA81D930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ADB7D-D04B-4DAA-B7C2-433FEBA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DCED5-C94A-4772-8219-EB3534DA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B1090-EFEB-4460-A497-F02764E6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DD38E-DB8C-4D6A-AE48-33F60988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0CBEC-FAC8-453D-AE3E-A5FAFD3B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2EF1-8A99-4ED8-A6DE-02FEA68A9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0800-22A5-42F9-AD61-BEEBCF47F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98BD-EDB8-4323-9FA3-017AF9733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0EE0-3C40-4FAB-B8E9-AFE165A20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FFE0-2761-4C17-9351-0978906ED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1490-8B97-4444-95A3-6EF171C56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9011-CC13-422A-91BD-8E3A40CD4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4E7-30DB-4FF2-9915-727FB44B6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F085-93F1-4751-9018-94E95E2880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FBD5-0C8B-40C0-9595-C677B694B2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E9F3-DEC5-43E1-9625-351034CA6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oftware Testing – 6 – Testing Strateg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82600" y="3779640"/>
            <a:ext cx="6778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cture # 2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3745-C28C-4454-A2BC-9D39C4D3B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B1D25-A50C-476C-AEF8-624AE4A4DE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52240" y="596880"/>
            <a:ext cx="6816600" cy="3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338560" y="1747800"/>
            <a:ext cx="4762440" cy="3808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550160" y="1355760"/>
            <a:ext cx="115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unit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226560" y="1417680"/>
            <a:ext cx="1505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905520" y="5018040"/>
            <a:ext cx="1403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342800" y="5003640"/>
            <a:ext cx="1030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1057-5B03-4218-87FD-4D8881A310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Strategy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Unit tes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ntrates on each unit (i.e., component) of the software as implemented in 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Integration tes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ext, where the focus is on design and the construction of the software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B8EE-8485-4783-AAAE-435E3069A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ED28-D262-4C2B-91B1-69DC8A178E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Strategy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is the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validation tes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requirements established as part of software requirements analysis are validated against the software that has been constru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we have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system tes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the software and other system elements are tested as a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CC4D-D7CA-4E68-99BA-040FF4979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976D-3416-46E7-8EC9-1000568A0B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Strategy: Unit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testing makes heavy use of white-box testing techniques, exercising specific paths in a module’s control structure to ensure complete coverage and maximum erro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245B-5E10-4B5B-9ADA-C93BB5688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B4E1-6BB9-4A91-B227-F401A353A9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Strategy: Integration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, components must be assembled or integrated to form the complete softwa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testing addresses the issues associated with the dual problems of verification and program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 test case design techniques are the most prevalent during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444F-A7B1-40D3-A3BA-144CEFCC6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904F-7CC1-4212-9EE0-DB8AE04A15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Strategy: Validation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oftware has been integrated, a set of high-order tests are condu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criteria (established during requirements analysis) must be t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testing provides final assurance that software meets all functional, behavioral, and performanc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T techniques are used exclusively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B093-69CA-47D7-8590-DD55E2020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1C5F-AA7E-41C2-8F74-8703479F93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Strategy: System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testing is the last high-order testing and it falls outside the boundaries of software engineering and into the broader context of computer system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testing verifies that all elements (hardware, people, databases) mesh properly and that overall system function/performance is achie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2731-4B35-4A84-8B45-7C5AAA89E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9EDC-EDCD-4DB2-AEC1-A630BAFB75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V” Model of Softwar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381560" y="2182320"/>
            <a:ext cx="2522520" cy="399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 flipH="1" flipV="1">
            <a:off x="1734840" y="2182320"/>
            <a:ext cx="2646360" cy="399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735200" y="1930320"/>
            <a:ext cx="5168880" cy="671760"/>
          </a:xfrm>
          <a:prstGeom prst="rightArrow">
            <a:avLst>
              <a:gd name="adj1" fmla="val 50000"/>
              <a:gd name="adj2" fmla="val 1923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2819520" y="3352680"/>
            <a:ext cx="3124080" cy="671760"/>
          </a:xfrm>
          <a:prstGeom prst="rightArrow">
            <a:avLst>
              <a:gd name="adj1" fmla="val 50000"/>
              <a:gd name="adj2" fmla="val 11626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3"/>
          <p:cNvSpPr/>
          <p:nvPr/>
        </p:nvSpPr>
        <p:spPr>
          <a:xfrm>
            <a:off x="3657600" y="4902120"/>
            <a:ext cx="1327320" cy="671760"/>
          </a:xfrm>
          <a:prstGeom prst="rightArrow">
            <a:avLst>
              <a:gd name="adj1" fmla="val 50000"/>
              <a:gd name="adj2" fmla="val 4939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51560" y="199872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298520" y="34466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677320" y="50166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5194800" y="50166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5931360" y="33624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7023960" y="19270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79617-6EAF-44D7-987B-398509A30A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Issues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product requirements in a quantifiable manner long before testing comm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F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esting objectives explici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users of the software and develop a profile for each user 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ors/users of use-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BAEA-E71A-49BD-B2C6-C35D6171E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3AC0-1966-423B-9831-3D206920D3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Issues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testing plan that emphasizes “rapid cycle test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“robust” software that is designed to test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should be capable of diagnosing certain classes of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ffective formal technical reviews as a filter prior to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8B4E-B1C5-4B82-83D5-A30873625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FD00-784A-4704-93F4-D844A7BEFF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two last lectures, we had discussed black-box and white-box testing techniques in quite a bit of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d also discussed certain techniques within this these two broad testing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DB03-3581-48E4-BC4E-33AF8128C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0A10-DEFA-45A9-B874-C52BBA287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Issues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formal technical reviews to assess the test strategy and test cases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continuous improvement approach for the test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DF17-CB3A-4E7F-8423-38AF4CCB0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4B2C-24B4-4646-AB9A-BA70B1D843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have some detailed discussions on each of the testing strategies int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FBB0-ED70-4173-9F20-4C0CE72D6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45AA-54CD-4543-BE68-2A98AE78C0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Testing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testing focuses verification effort on the smallest unit of software design – the software component or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ve complexity of tests and uncovered errors is limited by the constrained scope established for unit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units can be tested in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5E61-319C-42B1-B7DE-28B443A2E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02D7-A158-4436-920D-7841AC002B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2216160" y="1335240"/>
            <a:ext cx="1498680" cy="11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36800" y="409680"/>
            <a:ext cx="5524560" cy="3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216320" y="1332000"/>
            <a:ext cx="3568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141440" y="2359080"/>
            <a:ext cx="132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138920" y="161604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145760" y="2801880"/>
            <a:ext cx="2625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l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138920" y="233028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4148280" y="3273480"/>
            <a:ext cx="2682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4138920" y="304488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4147200" y="3701880"/>
            <a:ext cx="239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depende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4138920" y="398772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4147200" y="4116240"/>
            <a:ext cx="26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rror handling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4" descr=""/>
          <p:cNvPicPr/>
          <p:nvPr/>
        </p:nvPicPr>
        <p:blipFill>
          <a:blip r:embed="rId1"/>
          <a:stretch/>
        </p:blipFill>
        <p:spPr>
          <a:xfrm>
            <a:off x="2382840" y="4127400"/>
            <a:ext cx="1219320" cy="18637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5"/>
          <p:cNvSpPr/>
          <p:nvPr/>
        </p:nvSpPr>
        <p:spPr>
          <a:xfrm>
            <a:off x="2364120" y="1403280"/>
            <a:ext cx="1097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21600" y="5427720"/>
            <a:ext cx="132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7"/>
          <p:cNvSpPr/>
          <p:nvPr/>
        </p:nvSpPr>
        <p:spPr>
          <a:xfrm rot="16200000">
            <a:off x="2297160" y="3158640"/>
            <a:ext cx="1285560" cy="380880"/>
          </a:xfrm>
          <a:prstGeom prst="rightArrow">
            <a:avLst>
              <a:gd name="adj1" fmla="val 50000"/>
              <a:gd name="adj2" fmla="val 15002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8"/>
          <p:cNvSpPr/>
          <p:nvPr/>
        </p:nvSpPr>
        <p:spPr>
          <a:xfrm flipV="1">
            <a:off x="2997360" y="2629080"/>
            <a:ext cx="1104840" cy="9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9"/>
          <p:cNvSpPr/>
          <p:nvPr/>
        </p:nvSpPr>
        <p:spPr>
          <a:xfrm flipV="1">
            <a:off x="3035160" y="3057480"/>
            <a:ext cx="1054080" cy="55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0"/>
          <p:cNvSpPr/>
          <p:nvPr/>
        </p:nvSpPr>
        <p:spPr>
          <a:xfrm flipV="1">
            <a:off x="3048120" y="3471480"/>
            <a:ext cx="1028520" cy="15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1"/>
          <p:cNvSpPr/>
          <p:nvPr/>
        </p:nvSpPr>
        <p:spPr>
          <a:xfrm>
            <a:off x="3060720" y="3672000"/>
            <a:ext cx="1079640" cy="24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3048120" y="3629160"/>
            <a:ext cx="1092240" cy="69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97EA-F6C1-42A2-9F2F-9E7E1761060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Testing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ule interface is tested to ensure that information properly flows into and out of the program unit under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cal data structure is examined to ensure that data stored temporarily maintains its integrity during all steps in an algorithm’s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69C1-CD70-4F45-8069-1D94EB57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C891-0BA7-4BFD-869F-5D7A683934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Testing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ary conditions are tested to ensure that the module operates properly at boundaries established to limit or restric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dependent paths through the control structure are exercised to ensure that all statements in a module have been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rror handling paths are t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28F6-4A1B-4BBE-A406-4B425FB0B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4524-7E18-40DC-A742-ABD97F846F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Testing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 of data flow across a module interface are required before any other test is init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C03F-6445-46C3-9AA4-DD91AF613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91A6-AEE9-4721-8A50-08FA8AD2D3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Testing: Common Errors F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the more common errors in computation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understood or incorrect arithmetic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mod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rect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ion in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rect symbolic representation of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1439-7CC9-40DE-9673-DFF06F354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C7B3-B973-40CB-9CB5-DA5EE0ABAC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Testing: Test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cases should uncover errors suc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arison of different data ty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orrect logical operators or preced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pectation of equality when precision error makes equality unlike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orrect comparison of vari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roper or non-existent loop term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ilure to exit when divergent iteration is encounte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roperly modified loop vari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B2E8-23C3-4D16-93E8-72314599D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3B5D-90F9-4C28-81C5-409E496E92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Testing: Error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the potential errors that should be tested when error handling is evaluated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description is unintellig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noted does not correspond to error encou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ondition causes system intervention prior to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-condition processing is 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description does not provide enough information to assist in the location of the cause of th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0A28-A3B9-4465-876B-8411AB7F7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8B51-683E-42EC-B86B-82191CE0DF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we’ll talk about test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288A-B6D8-46C5-801F-91364C3D1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3DEB-96D3-4030-9730-66D5F21D1C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Testing: Boundary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ary testing is the last and probably the most important task of unit testing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often fails at its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cases that exercise data structure, control flow, and data values just below, at, and just above maxima and minima are very likely to uncover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CD99-0BE7-41E2-8C3C-AF7BEF6B7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D011-E284-4DB6-AB55-ADC95A34F4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testing is simplified when a component with high cohesion is de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nly one function is addressed by a component, the number of test cases is reduced and errors can be more easily predicted and un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ee a unit test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EE56-5FF7-4A71-9164-77E559100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134A-7CA0-454C-9F2C-59BA54CFD2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96960" y="272520"/>
            <a:ext cx="5950080" cy="6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Test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974960" y="2627280"/>
            <a:ext cx="1143000" cy="9428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920600" y="2846520"/>
            <a:ext cx="113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517760" y="4041720"/>
            <a:ext cx="863640" cy="7714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2571840" y="4041720"/>
            <a:ext cx="863640" cy="7714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914560" y="1255680"/>
            <a:ext cx="1917720" cy="971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H="1">
            <a:off x="2590920" y="2247840"/>
            <a:ext cx="8762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H="1">
            <a:off x="1930320" y="3591000"/>
            <a:ext cx="571680" cy="44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2603520" y="3591000"/>
            <a:ext cx="393840" cy="44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1575360" y="421812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2655000" y="420372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30440" y="1488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2764440" y="5715000"/>
            <a:ext cx="141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5562720" y="1289160"/>
            <a:ext cx="3568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5805360" y="2046240"/>
            <a:ext cx="132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5809320" y="2489040"/>
            <a:ext cx="2625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l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5802840" y="196524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5812200" y="2960640"/>
            <a:ext cx="2682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5802840" y="267984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810760" y="3389400"/>
            <a:ext cx="239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depende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02840" y="362268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5811120" y="3803760"/>
            <a:ext cx="26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rror handling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4" descr=""/>
          <p:cNvPicPr/>
          <p:nvPr/>
        </p:nvPicPr>
        <p:blipFill>
          <a:blip r:embed="rId1"/>
          <a:stretch/>
        </p:blipFill>
        <p:spPr>
          <a:xfrm>
            <a:off x="4046400" y="3684600"/>
            <a:ext cx="1219320" cy="18637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5"/>
          <p:cNvSpPr/>
          <p:nvPr/>
        </p:nvSpPr>
        <p:spPr>
          <a:xfrm>
            <a:off x="5285520" y="5038560"/>
            <a:ext cx="132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26"/>
          <p:cNvSpPr/>
          <p:nvPr/>
        </p:nvSpPr>
        <p:spPr>
          <a:xfrm rot="16200000">
            <a:off x="3986280" y="2730600"/>
            <a:ext cx="1285920" cy="380880"/>
          </a:xfrm>
          <a:prstGeom prst="rightArrow">
            <a:avLst>
              <a:gd name="adj1" fmla="val 50000"/>
              <a:gd name="adj2" fmla="val 1500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V="1">
            <a:off x="4660920" y="2185560"/>
            <a:ext cx="1104840" cy="98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4699080" y="2614680"/>
            <a:ext cx="1054080" cy="55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 flipV="1">
            <a:off x="4711680" y="3029040"/>
            <a:ext cx="1028880" cy="15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0"/>
          <p:cNvSpPr/>
          <p:nvPr/>
        </p:nvSpPr>
        <p:spPr>
          <a:xfrm>
            <a:off x="4724280" y="3228840"/>
            <a:ext cx="1079640" cy="2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711680" y="3186000"/>
            <a:ext cx="1092240" cy="7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3733920" y="2271600"/>
            <a:ext cx="0" cy="3286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830F-0FF8-4A77-9904-35825FBF74D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Testing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If  they all work individually, why do you doubt that they’ll work when we put them together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, of course, is “putting them together” – interfa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E8DF-1E7F-490A-8E1C-F8D324B32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4957-4F58-48C0-B565-010AE086CE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Testing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ata can be lost across an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e module can have an inadvertent, adverse affect on ano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b-functions, when combined, may not produce the desired major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ividually acceptable imprecision may be magnified to unacceptable lev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lobal data structures can present probl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118D-7FE2-447C-B68C-7CDFA318A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6AB5-7808-4674-9ECC-FFB2018A0C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2276640" y="2755800"/>
            <a:ext cx="4593960" cy="24354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52EA-D44F-475F-8156-F9FA0CBE761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Testing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testing is a systematic technique for constructing the program structure while at the same time conducting tests to uncover errors associated with interfa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components have already been unit tested and the structure is dictated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275C-29F1-4331-A727-442ACB7AC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2969-66D5-48EF-8260-2C7C2D8F99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Testing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tendency, sometimes, to attempt non-incremental integration – a sort of “big bang”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ponents are combined in ad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tire software is tested as a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 chaos usually resul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hould rather use incremental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EBFB-E5CC-450C-BDBF-556CCB4FD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6918-947F-478E-BF3E-536EDD8B3D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Testing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-down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-up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dwich testing and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2ACC-B3D7-4A1C-92B9-ADEDB650C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176F8-8060-4F78-8134-224FAF7C34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0000" y="514440"/>
            <a:ext cx="6511680" cy="3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Down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3911760" y="1528920"/>
            <a:ext cx="685800" cy="54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162240" y="2614680"/>
            <a:ext cx="685800" cy="54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2400480" y="3714840"/>
            <a:ext cx="685800" cy="54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917720" y="4800600"/>
            <a:ext cx="685800" cy="54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819520" y="4800600"/>
            <a:ext cx="685800" cy="54288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025880" y="2614680"/>
            <a:ext cx="685800" cy="54288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876920" y="2614680"/>
            <a:ext cx="685800" cy="54288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2730600" y="4272120"/>
            <a:ext cx="380880" cy="48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4280040" y="2085840"/>
            <a:ext cx="37800" cy="5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4254480" y="2114640"/>
            <a:ext cx="977760" cy="48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5025240" y="1703520"/>
            <a:ext cx="332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op module is test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5018040" y="1960560"/>
            <a:ext cx="80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t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3704760" y="3317760"/>
            <a:ext cx="325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tubs are replaced one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3700440" y="3575160"/>
            <a:ext cx="258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a time, "depth firs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3682800" y="4232160"/>
            <a:ext cx="403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as new modules are integra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3681720" y="4489560"/>
            <a:ext cx="372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ome subset of tests is re-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9"/>
          <p:cNvSpPr/>
          <p:nvPr/>
        </p:nvSpPr>
        <p:spPr>
          <a:xfrm>
            <a:off x="4140360" y="15606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3352680" y="2703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1"/>
          <p:cNvSpPr/>
          <p:nvPr/>
        </p:nvSpPr>
        <p:spPr>
          <a:xfrm>
            <a:off x="2628720" y="380376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2"/>
          <p:cNvSpPr/>
          <p:nvPr/>
        </p:nvSpPr>
        <p:spPr>
          <a:xfrm>
            <a:off x="2095560" y="48466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3022200" y="484668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4"/>
          <p:cNvSpPr/>
          <p:nvPr/>
        </p:nvSpPr>
        <p:spPr>
          <a:xfrm>
            <a:off x="4216320" y="27176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5"/>
          <p:cNvSpPr/>
          <p:nvPr/>
        </p:nvSpPr>
        <p:spPr>
          <a:xfrm>
            <a:off x="5042160" y="27176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3530160" y="2100240"/>
            <a:ext cx="723960" cy="48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27"/>
          <p:cNvSpPr/>
          <p:nvPr/>
        </p:nvSpPr>
        <p:spPr>
          <a:xfrm flipH="1">
            <a:off x="2755440" y="3186000"/>
            <a:ext cx="723960" cy="4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28"/>
          <p:cNvSpPr/>
          <p:nvPr/>
        </p:nvSpPr>
        <p:spPr>
          <a:xfrm flipH="1">
            <a:off x="2273400" y="4286160"/>
            <a:ext cx="457200" cy="4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9555-4E1B-4603-8AFC-DFA03F36E92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testing needs to be planned in advance and conducted syste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of software testing strategies have been proposed in the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em have these four generic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646B-6245-40FE-A815-31B7FC394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E833-505C-4DE0-837E-64DFC0EC5B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ing slide to be inse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-Up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F29C-DA3F-4CBA-A4EB-DC5DF100F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CAF2-BB0B-4DBA-924B-55E89ABF414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79080" y="477360"/>
            <a:ext cx="6891480" cy="3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1790640" y="3157560"/>
            <a:ext cx="2021040" cy="2416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962520" y="1328760"/>
            <a:ext cx="685800" cy="54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200400" y="2414520"/>
            <a:ext cx="685800" cy="54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451240" y="3514680"/>
            <a:ext cx="685800" cy="54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968480" y="4600440"/>
            <a:ext cx="685800" cy="543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870280" y="4600440"/>
            <a:ext cx="685800" cy="543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4064040" y="2414520"/>
            <a:ext cx="685800" cy="54288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4927680" y="2414520"/>
            <a:ext cx="685800" cy="54288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11"/>
          <p:cNvGrpSpPr/>
          <p:nvPr/>
        </p:nvGrpSpPr>
        <p:grpSpPr>
          <a:xfrm>
            <a:off x="3581280" y="1886040"/>
            <a:ext cx="725760" cy="514080"/>
            <a:chOff x="3581280" y="1886040"/>
            <a:chExt cx="725760" cy="514080"/>
          </a:xfrm>
        </p:grpSpPr>
        <p:sp>
          <p:nvSpPr>
            <p:cNvPr id="363" name="Freeform 12"/>
            <p:cNvSpPr/>
            <p:nvPr/>
          </p:nvSpPr>
          <p:spPr>
            <a:xfrm>
              <a:off x="4102200" y="1886040"/>
              <a:ext cx="204840" cy="172800"/>
            </a:xfrm>
            <a:prstGeom prst="pie">
              <a:avLst/>
            </a:prstGeom>
            <a:solidFill>
              <a:srgbClr val="00000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3"/>
            <p:cNvSpPr/>
            <p:nvPr/>
          </p:nvSpPr>
          <p:spPr>
            <a:xfrm flipH="1">
              <a:off x="3581280" y="2014200"/>
              <a:ext cx="57168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14"/>
          <p:cNvGrpSpPr/>
          <p:nvPr/>
        </p:nvGrpSpPr>
        <p:grpSpPr>
          <a:xfrm>
            <a:off x="2806200" y="2971800"/>
            <a:ext cx="713160" cy="528120"/>
            <a:chOff x="2806200" y="2971800"/>
            <a:chExt cx="713160" cy="528120"/>
          </a:xfrm>
        </p:grpSpPr>
        <p:sp>
          <p:nvSpPr>
            <p:cNvPr id="366" name="Freeform 15"/>
            <p:cNvSpPr/>
            <p:nvPr/>
          </p:nvSpPr>
          <p:spPr>
            <a:xfrm>
              <a:off x="3327480" y="2971800"/>
              <a:ext cx="191880" cy="173160"/>
            </a:xfrm>
            <a:prstGeom prst="pie">
              <a:avLst/>
            </a:prstGeom>
            <a:solidFill>
              <a:srgbClr val="000000"/>
            </a:solidFill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6"/>
            <p:cNvSpPr/>
            <p:nvPr/>
          </p:nvSpPr>
          <p:spPr>
            <a:xfrm flipH="1">
              <a:off x="2806200" y="3099960"/>
              <a:ext cx="559080" cy="39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Line 17"/>
          <p:cNvSpPr/>
          <p:nvPr/>
        </p:nvSpPr>
        <p:spPr>
          <a:xfrm flipH="1">
            <a:off x="2286000" y="4071960"/>
            <a:ext cx="520560" cy="52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2781360" y="4071960"/>
            <a:ext cx="44460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9"/>
          <p:cNvSpPr/>
          <p:nvPr/>
        </p:nvSpPr>
        <p:spPr>
          <a:xfrm>
            <a:off x="4330800" y="1886040"/>
            <a:ext cx="38160" cy="52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0"/>
          <p:cNvSpPr/>
          <p:nvPr/>
        </p:nvSpPr>
        <p:spPr>
          <a:xfrm>
            <a:off x="4305240" y="1914480"/>
            <a:ext cx="978120" cy="4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1"/>
          <p:cNvSpPr/>
          <p:nvPr/>
        </p:nvSpPr>
        <p:spPr>
          <a:xfrm>
            <a:off x="3896280" y="3174840"/>
            <a:ext cx="369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drivers are replaced one at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3890520" y="3432240"/>
            <a:ext cx="237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ime, "depth firs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3798720" y="4160880"/>
            <a:ext cx="430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orker modules are grouped i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3791520" y="4417920"/>
            <a:ext cx="274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builds and i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4191120" y="13604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3403440" y="2503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7"/>
          <p:cNvSpPr/>
          <p:nvPr/>
        </p:nvSpPr>
        <p:spPr>
          <a:xfrm>
            <a:off x="2679480" y="3603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8"/>
          <p:cNvSpPr/>
          <p:nvPr/>
        </p:nvSpPr>
        <p:spPr>
          <a:xfrm>
            <a:off x="2146680" y="4646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3072960" y="46465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4267080" y="2517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092920" y="25178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32"/>
          <p:cNvSpPr/>
          <p:nvPr/>
        </p:nvSpPr>
        <p:spPr>
          <a:xfrm>
            <a:off x="2185200" y="5484960"/>
            <a:ext cx="99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3651120" y="3049560"/>
            <a:ext cx="27936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41AE-0639-4B20-8504-6726C481D2B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ing slide to be inse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dwich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122F-71AE-461E-A2C3-51F2A2B99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2E01-6C85-430F-BD84-8C7A48E0C32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dwich Testing and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1790640" y="3157560"/>
            <a:ext cx="2021040" cy="2416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3962520" y="1328760"/>
            <a:ext cx="685800" cy="54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3200400" y="2414520"/>
            <a:ext cx="685800" cy="54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2451240" y="3514680"/>
            <a:ext cx="685800" cy="542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1968480" y="4600440"/>
            <a:ext cx="685800" cy="543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2870280" y="4600440"/>
            <a:ext cx="685800" cy="543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4064040" y="2414520"/>
            <a:ext cx="685800" cy="54288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4927680" y="2414520"/>
            <a:ext cx="685800" cy="54288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1"/>
          <p:cNvSpPr/>
          <p:nvPr/>
        </p:nvSpPr>
        <p:spPr>
          <a:xfrm flipH="1">
            <a:off x="2286000" y="4071960"/>
            <a:ext cx="520560" cy="52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2"/>
          <p:cNvSpPr/>
          <p:nvPr/>
        </p:nvSpPr>
        <p:spPr>
          <a:xfrm>
            <a:off x="2781360" y="4071960"/>
            <a:ext cx="44460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3"/>
          <p:cNvSpPr/>
          <p:nvPr/>
        </p:nvSpPr>
        <p:spPr>
          <a:xfrm>
            <a:off x="4330800" y="1886040"/>
            <a:ext cx="38160" cy="52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305240" y="1914480"/>
            <a:ext cx="978120" cy="4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5117040" y="1546200"/>
            <a:ext cx="2232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op modul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ested with st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785760" y="4160880"/>
            <a:ext cx="437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orker modules are grouped i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3791520" y="4417920"/>
            <a:ext cx="274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builds and i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4191120" y="13604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3403440" y="2503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0"/>
          <p:cNvSpPr/>
          <p:nvPr/>
        </p:nvSpPr>
        <p:spPr>
          <a:xfrm>
            <a:off x="2679480" y="3603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1"/>
          <p:cNvSpPr/>
          <p:nvPr/>
        </p:nvSpPr>
        <p:spPr>
          <a:xfrm>
            <a:off x="2146680" y="4646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3072960" y="46465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4267080" y="2517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5092920" y="25178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2185200" y="5484960"/>
            <a:ext cx="99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26"/>
          <p:cNvSpPr/>
          <p:nvPr/>
        </p:nvSpPr>
        <p:spPr>
          <a:xfrm flipH="1">
            <a:off x="3682800" y="1914480"/>
            <a:ext cx="609480" cy="4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7"/>
          <p:cNvSpPr/>
          <p:nvPr/>
        </p:nvSpPr>
        <p:spPr>
          <a:xfrm flipV="1">
            <a:off x="2882880" y="2971800"/>
            <a:ext cx="546120" cy="54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7E95-0AF8-478B-9C0E-63AD32BB172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4343-C449-4C1D-9829-EDADC85A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0C63-0FA7-48A5-B782-AD61691A82F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we’ve discussed different test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65BB-FBEE-4877-9E87-8B8987289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EE7E-5DDB-4A05-9CB9-F15B4B9C9C8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: A Practitioner’s Approach by Roger S. Pressman (Chapter 18.1 – 18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4260-5D4F-462E-9983-0DB480749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3E8D-1AE4-41C4-B0C7-A7905CDEBAB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Testing Strategies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Testing begins at the component level and works “outward” toward the integration of the entire computer-bas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Different testing techniques are appropriate at different points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99D-220D-4E90-B740-1E20F9236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BE5C-48F6-4B50-9F93-2FE1E6F0A9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Testing Strategies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 Testing is conducted by the developer of the software and (for large projects) an independent test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) Testing and debugging are different activities, but debugging must be accommodated in any testing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8ED8-5B00-4503-8D99-64BF20DB7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9812-E2F0-4661-A3B7-029A16611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ategy for software testing must accommodate low-level tests that are necessary to verify that a small source code segment has been correctly implemented as well as high-level tests that validate major system functions against custome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A731-D120-4E70-8B9B-2F674F12E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4523-FA5C-4866-BC09-50B9360B4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ategy must provide guidance for the practitioner and a set of milestones for the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 steps of the test strategy occur at a time when deadline pressure begins to rise, progress must be measurable and problems must surface as early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DACF-1E2D-45EA-B71E-76D817545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3506-504B-4DE7-BD7E-C3CB1D9573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Strategy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BEE3-609B-4F00-8302-AAE710DE9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6E55-E375-4611-8C1F-C6CC3E482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9:05:19Z</dcterms:created>
  <dc:creator>Ghulam Ahmad Farrukh</dc:creator>
  <dc:description/>
  <dc:language>en-US</dc:language>
  <cp:lastModifiedBy>ahmadmohsin</cp:lastModifiedBy>
  <dcterms:modified xsi:type="dcterms:W3CDTF">2009-06-22T05:00:59Z</dcterms:modified>
  <cp:revision>363</cp:revision>
  <dc:subject/>
  <dc:title>Software Quality Assurance and Testing</dc:title>
</cp:coreProperties>
</file>